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6D7-0EA7-49F2-B38F-C4619528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5F8-1C94-4D07-8985-11E83DA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7FE-9E03-426D-92D1-99625E0D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DED-E49A-45F8-A0D4-939265F9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E27-8B78-4B84-86B5-967EEB30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CBF-D53E-4208-B13E-984F2FC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F7DC-260F-4DB6-9954-D54C68F3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488-5324-42B8-9BEC-DDD40ED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5D9-19D0-4824-A2A9-C4AD77D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FB4C-D110-4A3B-B859-1A4B7CB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D5BA-9882-4469-A7D9-53BE050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D96-5442-4546-888A-2FC9168D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86F-799D-4367-97A4-B2B0A97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D1D-64BA-4C03-94B8-702CAE5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7D94-8F14-4EFA-B4DD-86E9EFFA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874-E935-4007-A328-C0C765A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5A72-9DAA-467D-B21A-68BF40BA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9760-DC7F-4154-8AA5-4CF1D7CD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F04D-B17C-460D-94C6-FDE69DB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EC2B-149F-4868-9857-D1390EE9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11A0-02B6-435C-BC4E-1C66207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8A9B-8029-4D47-991D-F5B271F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164-CE92-4EAD-A1F9-3D2A0DF3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6F2E-89E2-4915-B47C-27F13E9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4627-0E84-4F5D-9B64-699BCD1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5232-7DF6-44B9-A998-89C7A28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0202-2A37-468F-8FD5-9D1561E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9996-E7A2-4C42-BFDD-6A28F18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37B7-1C6A-4776-96C3-B1C528F4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71FD-25B4-413B-89A9-7BE2E70F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22E1-ECB4-487D-8678-51C313B7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1895-2791-44F9-A4BC-B00338D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0D0B-A33F-4F0F-8EB2-3F21CA4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5E0-67B5-4401-90F7-F3AA8535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DF08-D873-429B-8D56-97303C64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39BC-2743-4E35-A999-F45F613D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A410-0C52-49CA-A7C6-B8C674D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0F9C-C0FF-4A01-8C82-E77E998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0AAD-41E4-4901-A3D4-59CE971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9A3C-CAA0-421F-BC01-BE3F3C8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6CE8-4E8B-49E4-8441-1B61387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7153-949E-4B7E-8944-45F2C710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4B0A-598F-4D86-9C5E-B9C7F74E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CC49-7D79-4455-8486-A6B4CB9D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313-3195-4308-AD6B-B5DD1179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823F-5D60-4D78-8BAA-63AD41C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BBC3-4C9B-47A7-A605-FB9D46C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4E85-6F09-4B40-A010-B03E21E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E27A-5B90-4E59-B4D5-20A0B04B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02653-89C7-4B6C-897A-692534D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9F83-7542-47CF-A64B-3D5D2D4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6A0A-1FC1-4C96-97D5-F0FA8BE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F0DE4-8CA0-4D85-8308-A9191B6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B405A-7847-433A-9211-722E12D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4343-2EF6-4D59-BCE0-882A04BC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165-2480-467D-AABB-9397D366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6EF6F-9B21-4814-8AB7-FADE8F56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14C7-F820-46C0-A876-EBE3E1C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39F4-45AD-4345-948B-E626C2F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9401-F38B-4E71-BE31-C57CFF4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CB7DC-213B-49CB-A85C-304856E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20CB2-FF26-4BCD-89EF-0CCAB78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9D0A-17D8-4FE7-995E-99540D1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A33E-BD8E-44E4-A1EB-0D4D581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B263B-BDDD-43E6-80EB-CBEB081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43BC-8B43-4497-822D-0D1353F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29E-7658-428C-A147-5F9E53E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1D4E0-1992-40CA-AD66-1862F29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15DEC-B8C1-4586-A70D-5B24FCF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4639-B396-46E3-9569-93306420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E09B-0FAD-4EAA-A817-BA62EE19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6CD8-9179-4531-A3E4-C562DF4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86F4-A1B3-41D1-8F2D-FCE8E21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7EAD7-8F2B-4DEA-8B54-AB8D17FB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90CC-6CC1-4877-AFBE-3B65159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48AE-290E-4756-8D22-8A5873B5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9E351-94A6-4C70-8A88-E95E07F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00B-1A9B-4212-9607-9C3A50A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1BEC-54A6-4036-B366-A51768B0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2277-76F7-451B-AF9E-340BEBA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D14E2-AD5C-4C47-B27E-57AC02F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811C-658B-4D80-A1C7-2B953E5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09BA-CD10-4546-9961-0F742655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7C-9350-4145-8B7E-FAAF227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84C8-4358-4522-9C2C-1FB6CD14D7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DC9A-9D1D-4322-A1FB-C4606EE391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291-4BF2-4A03-A37E-364852B4A8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1757-6694-4C3C-9951-DFAE600773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E2B-4CDB-4259-A283-5747E504DD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DDE4-89FC-4DBD-955D-51D9F1343D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FCBB-74BB-4D40-94B5-F3D5214C86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ported Spee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ndirect Spee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direct Spee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 reports what a speaker said without using his or her exact word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ing verbs are used such as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aid, told, indicated, mentioned, repor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: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rofessor told me that he had written a book about his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shifting”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s in reported speech shift back in ti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. Original: “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We are conducting some research with crow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orted Speech: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he scientist explained that she was conducting some research with cro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shifting” Verb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752480"/>
          <a:ext cx="8229600" cy="4480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 tense to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ny animal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very intelligen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zoologist said                 (that)many animal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e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ery intellig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 Progressive Tense to Past Progressive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’m conductin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 experiment on crow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as conductin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 experiment on crow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t tense and Present Perfect Tense to Past Perfec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crow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ad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hook to get food from a tre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ve never studie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is behavior befor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earcher reported (that)the crow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mad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 hook to get food from a tre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they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never studied 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behavior bef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057400" y="2666880"/>
          <a:ext cx="5486400" cy="321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am studying bonobo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earcher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older chimp helped the new chimp to find food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cientist…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ne of the chimps has helped another chimp befo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lab worker……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san won’t be in class because she is sick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eacher.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nging Mod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34960" y="1447920"/>
          <a:ext cx="7499520" cy="4943520"/>
        </p:xfrm>
        <a:graphic>
          <a:graphicData uri="http://schemas.openxmlformats.org/drawingml/2006/table">
            <a:tbl>
              <a:tblPr/>
              <a:tblGrid>
                <a:gridCol w="2568600"/>
                <a:gridCol w="2430720"/>
                <a:gridCol w="250020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012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odals will, can, and may change form in  reported spee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on’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e at the meeting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ask my colleague to take note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ble to send my secretar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explaine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wouldn’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t the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oul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k her colleague to take no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mentione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be able to send her secre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98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hange must to had 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 not change the modals should, could, might or ought 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u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find a way to repeat my experimen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 said (that) she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ad t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d a way to repeat her experi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447920" y="2362320"/>
          <a:ext cx="7499160" cy="3754440"/>
        </p:xfrm>
        <a:graphic>
          <a:graphicData uri="http://schemas.openxmlformats.org/drawingml/2006/table">
            <a:tbl>
              <a:tblPr/>
              <a:tblGrid>
                <a:gridCol w="2450880"/>
                <a:gridCol w="254808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should publish my results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may be able to publish them in Ju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results must be published soon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y won’t be published until the research is complet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cientist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he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r boss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Chan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34960" y="1447920"/>
          <a:ext cx="7499520" cy="18334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9880"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hange the pronouns, possessives, and time words to keep the original meanin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n’t acces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m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uter because it broke down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yesterda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The studen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imed (that) she couldn’t acces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h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uter because it had broken down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the day befo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ke turns changing the direct speech to indirect or reported speech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71600" y="2286000"/>
          <a:ext cx="7499520" cy="18288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ou were cheating on your test yesterda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didn’t cheat on the test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teacher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he student…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21:23:42Z</dcterms:created>
  <dc:creator> </dc:creator>
  <dc:description/>
  <dc:language>en-US</dc:language>
  <cp:lastModifiedBy> </cp:lastModifiedBy>
  <dcterms:modified xsi:type="dcterms:W3CDTF">2011-04-05T23:18:12Z</dcterms:modified>
  <cp:revision>1</cp:revision>
  <dc:subject/>
  <dc:title>Reported Speech</dc:title>
</cp:coreProperties>
</file>